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54658-A7D0-4312-80C2-1061C26E3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90B77-42FB-4694-AD18-ADFABD055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1C00C-091F-4705-83DF-857CC7C80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54D-8B42-4686-91BD-224A6285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9A2-6088-4E51-9BB1-4A6B4CCC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04130-37B4-4425-B1E4-1D0A57A6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B30CF-03CE-4D45-AB36-2DF8165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81101-7D86-4718-A845-5BA0F878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E7B5F-6541-4BAC-BB19-B067AF87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09AAB-9952-4720-8AD7-54B4BF81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BE9D0-D650-4492-890F-D0151B59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E302F-968A-4120-84B7-A5B4F618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95B90-29B2-4F26-8B7E-29C928AA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2A7ED-3B06-49D8-A8C2-0BE1386E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D2252-034E-47C5-B1AF-11C0D531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40D-EC36-42D5-A12B-119CD736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4B191-0547-458B-B76C-E841128A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C85F1-529E-4420-A080-1D970C11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A2217-EAAC-42B1-97D9-88988ABA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B49B9-2853-44D8-9931-B87C6A85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77A14-8C86-4B60-8F9A-3A8BDF79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48E83-4BE5-4D00-BC7A-A4E5382D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B5161-F6C2-4C9F-B0DD-060579D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0B302-B196-4404-9A7F-00EDA5F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E6E05-C104-4DF7-BDC8-EAE5FACA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4B963-CB5B-4E9F-B692-D0C67A25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DFD-F578-4B3E-A81C-28120DCA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2092D-D653-4BAD-B094-8371CC0D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49F54-3C93-4B34-B59F-03D625F1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F33AE-2A92-4C95-A517-62A2EC6D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FB311-5AA4-4155-8DD9-C4D8417A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56F8E-5D78-4F4C-9BF0-9F05941E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3A6C6-8EDB-4E94-8928-D9A64E0B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D17DF-03D8-4632-A846-18F0E14A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55B8A-F47C-409E-9DAE-16106C9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85B71-92B9-47CD-9916-3C25B26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26E79-2A18-40E5-B3B7-C6013C08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F4F0-AE91-4C54-A8B1-68B8DA6C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D770D-0405-46FB-BFC9-E60F7384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702EA-65A7-4B12-BDD3-AF4ECA56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BF536-7E86-442F-8D99-EC7421ED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F4C82-973F-4D2B-B0CD-5FF074A1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A2737-8AB5-493A-9BA3-AAEFCB10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04E87-0D5D-4A2D-8F86-D0E35329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9EB20-FCF2-492D-B398-61F2E44D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BE5D8-32B7-4F66-AE86-0B933553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4F9FA-E969-4427-AFBF-A40929B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0E7D9-F14A-4B31-9D2F-CE678F33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25C8-FCF3-43E1-A665-6408CEEE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8A037-58AC-45AB-8DE0-FBE6A0EA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282BD-C8FA-4B0B-BABD-756EC5A8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C42A9-E0FF-4EFA-8030-E81862D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FD1EA-E57B-4E1B-82AD-6DCF827E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4FF95-3A16-43CB-A8FD-A9F974C2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D3421-C266-4BD8-B24A-C9D3D3B3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DA1CD-A161-4C97-A997-1026B852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82437-FE69-4253-B051-059F56CE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C95A1-32E9-4CA5-9361-B0152954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33987-864F-422B-9A39-EC0BFA2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5A5F-39EE-4C23-BABF-3115BBE6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B8C46-B11A-4A6E-8366-E613468B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1174C-6196-4AA1-A380-7A30C6AB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86B2B-A24D-47BA-91F2-F0233FE3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3DB1E-3C15-4F5F-9189-F162A1BD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E045D-4971-4C56-AC19-20B31A63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BCA1D-D8CC-4A1E-A4BF-ADAF9934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6C3C8-E09A-416A-9225-2A3C948F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AB337-4EDE-402C-ACA8-F04F0260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E8380-9308-4A0B-9A35-7C02096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9018C-84E9-4301-8ADA-E1257BC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FAA9-3C95-4FD3-9E15-645E5CA5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18BBE-F28F-42FE-9B62-97C94D99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F8E70-876E-4B55-890C-EC8291D1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3B3BF-4F48-49DA-8915-322B6EF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EFE22-C8B8-494B-B731-920196B0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FB6E7-9336-4852-B95F-2BBEFF4A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2D07F-951C-4352-BC31-14EB211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BE0C4-3E68-455A-A1E7-B8FA0253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E90AE-CEFE-4891-9D99-ADB2718F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8B0C3-CEE1-4E1F-A103-C5FB5068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F5A58-9E54-4B27-99A1-C03322A3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0ED8-CCF9-460E-849A-B7F33970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129A8-FBEB-48B4-8F7F-16CD58E4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D7F6C-7FA6-4DAF-A725-E5CD5FB8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91432-3CE2-4447-AA61-362DEACD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E05BE-D933-4700-B3DF-59A2408D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40C8B-E320-468C-9993-185782FD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39C49-D14C-48A5-9B6D-9F60FDF9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F8F8D-D345-4A3F-A658-D57E9AE9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D5386-C91A-4238-8541-EA64D3AA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42DD8-CA4D-4DAF-A603-CB37CC8C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300A4-775A-4AC5-AFA3-6B7F0572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82FB-900A-4E26-90D6-5A56ADC3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A3D62-8B95-4D6A-8AF9-FF1F9BDA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783ED-E99C-4206-AA51-9D083C3F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FCCABA-13EA-4267-B616-B3D5C8AE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D77C0-C9BC-4A42-8F6D-A5637E85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6E88F-C4F0-4DB3-B782-F94255B6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28FE6F-635D-443D-B389-ACC9D149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81B80-C170-4B6F-A6D6-32FC1C0F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9E28B-BBDE-4682-A6AA-A0879EF5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4382F-27C2-4284-B8F1-DB24B9E3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45383-B507-4461-A3F8-88F9AB65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8CC6-6E2D-4829-97E5-B9D5E2A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71ECE-A416-4DFF-B9C0-C05034B2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A0853-82DD-4CA8-91B8-6684596B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B7EC9-EC0E-4515-A253-743D7032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F636C-E1FF-479A-BA2F-FA0F2F46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D7BDF-4DB6-48D9-AAF7-84900E7B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47818-B194-493C-9E34-5272E4DE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E627F-DD3F-4002-8999-447E94DA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D019B5-F041-4652-9E66-C48EBC59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CB3D4-E594-4A11-B506-2C5C6F7B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25AA8-BD1B-487D-AB07-839C383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C34-6C31-4B82-8272-CF654865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5361-38DA-4405-BED4-6A337C66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F3CD2-9840-43F7-9355-12191C35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39ABBE-0553-4D78-A0DA-648EE6B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01052-4895-41AB-81B3-80E5EE38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185E9-3F1B-4FE0-BD8F-51814916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03C48-9A43-4F8D-905F-2998EC72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2E29-EEEE-452E-A5C3-9F79321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54C9-CE62-4A30-BA75-067FA8F1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83CA-BA72-478E-8EB9-423C1E98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1014-C46F-40EF-BE62-F574095B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7DCF-BE26-41B1-9E29-3D46A9C7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893C-3509-4A58-938A-C22D4AD2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0FF6-81BE-43A4-89B1-DDA95566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4FFA-A2C9-4039-9FDD-9CC5430A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2322-F4A9-44CE-929B-11979DB4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B23-DDB5-4764-8DF5-62597231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A985-A9E0-4BB0-9686-FC7B2EB0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839F-799A-4BDC-B273-1B8D43A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3E0C-F4A1-4C5E-B844-066E4A59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4279-470F-452B-9B48-59E78D4A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6743-7895-4262-8550-54F2E1ED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C755-FB1A-4D8C-906A-747FA020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800D-D6CA-49C1-88D0-09A77FEE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63AB-7555-4B81-A86F-0896ABCE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10D5-CC64-4C1C-8398-877701F0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50227-BE8A-4569-8B72-56E586CD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68C-D634-46AE-B9C5-CD70888F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CF3A-1DC0-495A-861E-AAACE50A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CADEA-AB9B-40EB-9979-210A65DE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9902-BE4A-468B-AB02-9344613E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ACF9E-1514-44CF-A718-6740DDBF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D5702-AE39-4D9F-9203-907239F2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29F61-10BD-4748-A5BD-FD50F1E1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7DF76-4A5F-48F9-B760-0B9B60C2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FDA40-A4DE-4BE6-8C7D-4BB46A0A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35859-E06F-489C-8776-C14260B8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92F3D-F8C4-4D68-84A2-E24AF911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C96-5957-4E60-B4CE-045BC71B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B9FD-BCF3-4BFB-A81A-206AA7E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78C25-8471-4817-857F-5C06C322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CF3D4-317A-4B17-AFF9-D462A60E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C7615-9B3B-41D2-9B10-E8E948BA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C157C-5F82-479A-8C32-24C123E4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54AF8-AE6D-42F9-8097-E2B1FED9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C6A45-64FD-48EB-861D-8B0E0A08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CD23-8CC2-44D9-8DA5-56A1788A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E65E-0B86-4D2F-B1AB-F455A9EA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C269-80D7-40A8-9DAB-0FD82617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387-C260-47BE-8558-D1155276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16884-9679-4005-B5D2-DAA3F272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18B74-563A-4150-AEE6-1D499ACC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5B81E-02DB-4A52-BE3D-B651F550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48C4-73C2-416E-8416-7652182E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841C7-B364-4580-9CB3-676F94B1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08A11-C3D9-418C-A29E-AFE1DB10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A17DB-8F3B-4302-93C0-F3D2ECAD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1D903-D415-4FC9-B016-E03A576B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8C9A-0022-4A69-8728-DD1C60CE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5730C-EB50-479A-8995-E02C7E13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DE9-E0E2-417F-965E-1DE4A674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84BB-96A3-4A5A-AA39-E2A25117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6768E-00AB-4D3B-A4ED-85DF9D5E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0E74D-CD15-4F2A-B4F2-8E2769A2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6AFF0-0E6F-4D53-A50E-7334A80A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86324-2D57-4A52-B8D8-1B3A46FA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1294D-1F76-47DC-88D0-9536B431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06DE-5DE7-4D44-B043-DCEB5859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3382-4AE5-482F-BCCD-BB00EEBA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C4FA9-ABDC-46A8-85DD-F71B025D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F866D-D4AF-456C-8D8F-BC2C78C3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556-F0A8-4CE9-95B1-8FDD222D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1A722-1A0A-457C-8A97-02EF2968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D595F-D756-4201-AB3D-0DB921F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1ABB9-08B9-4D7C-9863-35ADC031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C6CDA-DED6-4ADC-92F6-8DABA46A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1166A-6EDB-42CF-83FB-868B4723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BD556-A747-4645-8BC0-727EFDB5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0D086-BBB4-45F7-9747-B3825074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441F8-A6E9-4B75-B533-7ECEA289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2C54C-F264-4B61-8B8B-B0BEAAD0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4A93D-0D88-4E12-9D13-6D99A3AB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845-EE20-4DBC-934F-8E2B889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24F1B-D2F5-4473-AB4F-90C53F23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870FD-8966-4977-8AE8-02F8C012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FE957-162A-4EDA-A0A1-359D73D2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3D4E3-C6D2-451F-9B84-D263296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8357D-7FD9-43A1-A579-F435B042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852E7-74EA-40E2-AE16-0D2D7ADC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07BC4-D621-4141-81A1-A7A31281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8673B-D05E-402D-85DE-868B4962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38E07-4BAA-45F9-A4F1-BD043EB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65DA1-A416-44F1-8908-9B8002CA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A9110-018F-4FB9-BCB7-63FCDE720CD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A3E87-7254-460F-A7A3-3661F3627B2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525A6-BC0E-4A85-B09C-0A73E25EB7B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B6C38-04AE-411D-A56A-F8469D3D707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223BF-47DC-47BA-8DF9-4EFF8DE238A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D629A-5101-4E36-ADBB-48AFAD633C0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28EC8-FE2D-4D70-8C29-BA353D269FD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F494B-B2D1-4CF8-AE60-E0815E2D562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B0171-AF88-47B9-9AC6-293E7E43939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9D5E9-FD6D-425D-9043-DFB4FE2C9FD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3895B-5306-4C5D-A252-875FA612302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50408-C747-4EA3-A0B5-D52EB9CDEDB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C6AF4-BE18-4B13-95BD-595C78195A5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A040F-8605-4CA4-A7B9-B0B90D7D3AE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785F4-40CE-44B1-ABC7-928DBDFE9DF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EA977-DAE2-4D97-99BE-9D5B469E63D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32F6C-CFA2-4916-ACA2-2E78AE28FB3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C6668-8FE6-4967-9D6F-7483B969471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B40F7-D3A9-4085-9503-D72A127B44E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DD616-B09E-4D18-9C84-E1C443CC71D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6E9D7-DE71-4352-AD75-73664905A35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A9D5B-12A9-4D1B-AA95-B2CE3D80962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91AB9-611B-497C-8B34-98EB42F3C89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98C84-5272-414C-A79B-191DFCC9F10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0CB58-7B7C-4869-8BB4-704F6179BC0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C3850-4F6E-4AF3-9130-5247F3A8930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A7C76-9C72-4277-9887-6C98462FDC0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93616-3489-4517-A099-DDCECAAECAA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8FC5D-B0A3-4D6C-8C21-69005B6D155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8908C-4596-49A9-BC38-72AC0588C78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CC985-6A94-48E2-BB42-A23E46A98A3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E7A37-4843-4A25-9C50-2A3081C92AA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CECA8-33CD-4349-9D53-945344394E1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816FE-659B-49BD-9994-F81DDE650EE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oflcon.org/roflcon-ii-confirmed-guests/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531800"/>
            <a:ext cx="775332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5:  From Understanding to Creating Conten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ontinued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1920" indent="-42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 – notes on frame choices (e.g., bleeding pages, circles), use of grid in background as basic structure and of cours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1920" indent="-42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raft – notes on interview (including transcript from interview with his father), reproduction issues, sketches (and their evolution), frustrating panels to draw, ownership issu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1920" indent="-42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rface – reflection on his early history/influences and styles he admired (more on this in “In the Shadow of No Towers”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pplication to Comic Cre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of you create at surface level – that’s OK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nsider webcomics – many are of questionable artistic merit, and that’s fin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*not* an art assignment – rather see quality construction and analysis vs. high end ar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ix steps and your comic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Idea – is the story itself interesting/compelling?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Form – are you taking chances with the medium of visual storytelling?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Idiom – do you have a notion where your comic fits in the grand scheme of comic genres?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Structure – are you experimenting with comic structure at all?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Craft – what artistic challenges did you face?  Did you overcome them?  Or not?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Surface – comments on look/feel, color, etc. ; also comments on borrowed assets if used 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 look ahead to the final project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is a meme?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me exampl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What is likely (and less likely) to go viral?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02840" y="2151000"/>
            <a:ext cx="39322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ore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777920" y="2151000"/>
            <a:ext cx="39322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Less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How to propagate viral cont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1781280" y="2133720"/>
            <a:ext cx="70768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ssignment timelin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v 3 – proposal, considering message nature and distribution, plus summary and link to one Know Your Meme episod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y Nov 17 – creation of content and unleashing content to the worl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v 24 – presentation in class (science-fair style) – nature of content and analytics on its rea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N.B. this is not a popularity contest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n-class assign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roflcon.org/roflcon-ii-confirmed-guests/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ick one guest – why do you think it could be considered memetic/viral conten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Also consider going to ROFLCon in 2012.  It’s fun.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Next clas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oking at culture jamming and hacktivism – and the role of comics and visual images within i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627200" y="2133720"/>
            <a:ext cx="7230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ic analysis papers du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anner contest – one more week to ad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ssignment reminders – Comic Creation Nov 3, final project Nov. 24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nal project group list on wiki – add your group (or name if you don’t have one.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nal exam dates/times released – Thursday Dec. 15 8-10p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Understanding/Reinventing/Making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cCloud’s trilogy of comic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day – some notes on the process of mak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llowing weeks – more the social/political/economic foundations of comics as a mediu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1628399-mccloud_understanding_comics_super.jpeg"/>
          <p:cNvPicPr/>
          <p:nvPr/>
        </p:nvPicPr>
        <p:blipFill>
          <a:blip r:embed="rId1"/>
          <a:stretch/>
        </p:blipFill>
        <p:spPr>
          <a:xfrm>
            <a:off x="743040" y="1441440"/>
            <a:ext cx="76197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ix Step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rface as superficial – most people’s first step (e.g., copying work of other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pertise = developing a deeper appreciation of medium – practicing craft (e.g., sketches, doodles), different arrangements (e.g., frame sizes/grids), knowing and situating in idiom, experimenting with form, and developing an idea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MetaMaus as exampl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6" name="Picture 9" descr="WEB-metamaus-pa_1328319cl-8.jpeg"/>
          <p:cNvPicPr/>
          <p:nvPr/>
        </p:nvPicPr>
        <p:blipFill>
          <a:blip r:embed="rId1"/>
          <a:stretch/>
        </p:blipFill>
        <p:spPr>
          <a:xfrm>
            <a:off x="284040" y="2006640"/>
            <a:ext cx="5280120" cy="29638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" descr="SpiegelmanMETAMAUS.jpeg"/>
          <p:cNvPicPr/>
          <p:nvPr/>
        </p:nvPicPr>
        <p:blipFill>
          <a:blip r:embed="rId2"/>
          <a:stretch/>
        </p:blipFill>
        <p:spPr>
          <a:xfrm>
            <a:off x="5694480" y="2006640"/>
            <a:ext cx="3106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Background on Maus 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4356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biographical comic about Vladek Spiegelman’s survival of the Holocaus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5600" indent="-4356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imal metaphor – Jews as mice, Germans as cats, Americans as dogs etc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5600" indent="-4356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ritically and commercially successful – one million copies of each of Volumes I, II, and first comic to win a Pulitzer priz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5600" indent="-4356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pened eyes to the possibility of serious comics and brought in new/lapsed audi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MetaMau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Very) recently released book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terviews conducted with Art Spiegelman over four years, based on his notes/preparatory work/research ba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Your paper multiplied by about 100 in other word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pth of Spiegelman’ reflection and self-analysis quite extraordinary - a worthwhile rea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Six steps challenges faced by Spiegelman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dea– Holocaust stories are difficult by definition; auto/biographical element also difficult; structuring/balancing the animal metaphor (esp in cases where identity was fluid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rm – a comic about genocide was a difficult sell; moving from 3-page to long form issues; high/low art concer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diom – biographical serious comics were not normal fare when published; roots in alt comic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0-13T18:59:12Z</dcterms:modified>
  <cp:revision>41</cp:revision>
  <dc:subject/>
  <dc:title>CCT 300: Critical Analysis  of Media</dc:title>
</cp:coreProperties>
</file>